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10.gif" ContentType="image/gif"/>
  <Override PartName="/ppt/media/image9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FCA0-73C9-4184-8EEB-090E4C8D8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709C-F370-473E-95F5-87B2B2623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7FEA0C-1CC3-4072-A05C-0DE1719CC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306C41-6DB8-4D25-93FE-D833A58B0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4C71F5E-EBBF-4DEE-8C46-921F22BD8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5A2807-1DC5-4C3C-9720-302E1646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2E55227-227E-4E5C-95F1-AED2939F6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0DEDA1-684F-4439-8399-E00FB83E7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C374D26-58F1-4F48-BE5A-81C364196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0A60FFF-73FA-4806-B856-552C3373B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842FA34-C65F-44C7-9F61-182F9247F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1B1BA1-46B9-423B-826F-16BDA8623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CE5E-93F6-42C3-A5FA-38FF0601F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224CD78-751C-45E7-816A-A8DA0699D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4C3A3F-53FF-449F-B88B-C7D45C157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11521A7-F84E-43FC-951A-F6F66A9B8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73ECF73-34CB-401A-A7EE-4E74832F4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3009619-7B17-4184-B4FB-2FC3A28D1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33C6CC7-376E-4A5B-8EB6-AB4F966B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F493532-4D36-4AB6-B7F3-9774902AA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90E46EF-49D5-4065-887D-B9036430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CD0A300-D67C-4DCC-91D1-7E0CD7156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B753F4A-9986-462A-9D91-26CF709958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B4D9-2AC4-487A-961D-A213B679D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BAB751B-EBA6-42C0-BC34-F6D6477A6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34F94C-5F08-4568-A483-0667B6001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913273-3BEF-4E85-81A4-5AA7937E0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A71390-1071-4301-8D35-CE6AE5289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58089A-55F7-40D3-8DF8-67CC8FE32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A8740B-13BF-4980-A004-35EABA816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1B14E7-3BAF-45A7-AE2A-32D2889C3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F1C369-A272-4571-BE1B-35FE7EA60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D8299C-6ABB-43BF-AD1E-4A5EB78D1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805E92-04D9-4882-8A34-D17F8ACF2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7C638-E922-4A8D-A62E-3E351DA6F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41031E-17AC-4C7B-8D53-50E9AA91D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F070FE-179F-4002-B6C9-AED82E75C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31F6DF-70FB-4286-BF67-7C818FDAB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83F9C7-1DDB-47BC-94F1-1F9FF50AB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FCA77D7-4F12-43DD-94BE-E46F61363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5DABC7-3A16-4190-A21B-91C5036F9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47E0CF-DFF6-45EB-8C25-02324A57C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32ECB0B-086F-4A0C-B0A0-512752F78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4990C1-C769-4C65-AF5D-71D5B2004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643219F-E849-47AC-B975-BFB16F4DD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5C2A1-885B-45EE-848B-896E04BAC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B78BD67-2859-4313-830F-F471F5A6E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C722912-650F-4352-BF7C-24AF3A0C3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5E9523-5403-4E2A-B58D-1A58928DB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FF3384D-F429-4543-BAEF-43D09FF04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8ACF29-916D-4FE6-B5A7-CCB4B8230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87FCF-6464-4EF5-82B5-D6BC32CAD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69BE2-32C9-4CEE-A7C6-8E05FBE8D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99CDE-4AC7-40B5-AF07-2DEEEE602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B3D24-AE95-4A5C-A98E-C74086604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6D34A-F42D-4F18-8BDA-B9ED5C35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43D3-EF48-46D7-9BA0-6900FD785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1CC1D-58B3-4779-B6AC-62CB1C87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CA296-8C4B-4129-AAE9-D732F6214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0FB86-89E8-40A5-BD51-DB93675CF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CBD47-28D6-4E91-96BF-46C0E85D7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C1FB2-1108-47D2-8CEB-1EFC65A7F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D9296-5568-4CBB-9569-DE5AB739AA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77B9AF-C9B0-4083-92E5-8CB8366C2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19B3B4-5E89-4A03-B22D-0A6F75398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F1682-BAF7-490C-A9C8-1627FEC21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3C92AA-3AC4-4310-ADC2-C2C8FC7AB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71F0-6466-4F31-817F-25CF7DF82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85837-1265-490B-A50B-F2F0364AC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DFA787-3514-496D-92D9-18AF8E41E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DEA46-5D6D-4B1A-90CB-C1C3D97E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85C609-7C21-421B-96D2-7D18134E4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84B28-7371-49E1-8967-A885B07F9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562542-6E96-43A9-9888-FB9E98C49D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28FFFA-68EF-4615-A831-AFFB03AF7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EF58B9-0A5E-4DCC-B41E-353639187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EC9174-9B1B-4E8E-A252-9009A0271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C0D0F-11E1-48F0-BC21-EDEE33E05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BE9B-B231-467D-91FC-8A7010908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90F3F-9CAF-4519-AF7A-5AC16DBD8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51A9CA-D424-4540-A1A5-CC861C8D7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FB315-9B63-45C3-8C35-0C55E4E07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39E002-0A75-40D3-81B4-993201E3B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B7465-11A3-4CC3-A0D6-12745CB5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65E83-FCE4-4AB4-A020-F61680F08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58AB2-7293-4E45-BDB7-92C9F3ABF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CF611-919C-489C-B3F3-02DB87FE6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0FCAFA-0C19-48A4-9CD7-E696F1001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6C1234-DD72-4C40-9809-57718930D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B7F9-B6F6-4666-AA9E-B4142571D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A0826A-2C68-4AB8-9384-A86E61884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BF6381-9A87-4BA2-8A3A-4FD1C9489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23A714-7050-4F51-905C-778CC9845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D991A3-B58F-44E0-A88E-762EC060C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4986FD-4A0C-4303-A7B5-C38F5C72E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35EDED-E8F3-4088-9A9B-1B41C75B9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B15A28-89EF-47EE-BFF9-E26209190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FC6CAC-1670-4838-895E-B2D04F5AF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D9AA6D-858A-476A-B8D5-6CBAF57C3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5D864C-8DF1-466A-A7A0-C7437F0D4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0B35-416E-4407-9B85-00FFE3DDE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09D228-8B78-4964-9088-4E90E0BC4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D4068C-E172-46C3-A489-008840D9A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25A3C8-D79D-425D-A2EB-8DB928FBC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FCB84C-BC4E-4506-AB9A-88243F07D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1F8666-F8F9-4B69-A9CA-8C6F001C1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0B6719-E63B-4F39-A876-F5187DCD3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7A26AE-EADE-49FF-880B-C47AD7C80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F47FF8-F604-4BFB-8861-A0B61FDAB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3BF311-FB34-4891-A3AE-06BC271F3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CBE71E-5401-43AE-ABF7-16B94CBE4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30E8-E305-406E-8B32-1CA92D9B9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B3306B-19A7-42C9-ABDF-988C23012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C93CB0-9740-4F0A-AB01-4091A862B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423AD5-878B-4215-BE89-22EC0F3B6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732686-D131-4756-8BBF-42AC2CC3F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EAE500-92EB-4514-88A1-B35EAA671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FFBA72-8757-41BD-A798-7713D2804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466FE8-916F-46E2-B212-A70C9A0B8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EFCD9A-F409-4FAD-8E44-CF0739B64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456565-45E5-4425-B545-9F106AA91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EC612F-5DAE-48B8-A576-9AABBD576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6E950-F31F-416A-A27F-BEF80380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410ABC-A6E2-4801-82F4-603528D8E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507E1E-B8D4-4C55-A8DF-6996E06A0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EB3A07-197F-4699-BB8F-EC2B98018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E4D055-3DC6-43EA-8E00-AE20F9CA0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0552F4-6DE3-4CDD-94FB-6E5BBD23D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4AA204-085F-4227-84B7-7508ABA7B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A31C8A-5353-4F18-A6D4-9FC1EC53B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71B45A-A2F2-4FBC-9D22-6CFAE6AD4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7CF304-EE4D-411B-985B-AC87E5AEC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8A76F4-90C0-4E15-809D-BC52F96CB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85D1-2A86-4FBE-B794-3B4E819A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687AA0-50F0-4D16-A554-A46913205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97CF72-AFAB-43BF-8BB3-AE83702C6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FA215D-C941-41F5-ADAA-C2A853807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EEB90C-62B4-45DC-A179-609485512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3FA466-151B-4BC2-90B4-32E623265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737B8A-2465-4FDF-A317-F8670FF29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45D8C5-C10E-400E-BE58-46A195933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9BAF2BB-0DAE-4E1D-AB3F-3071216CC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7D0296-ECE8-497B-AB11-79EF0371A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F8F2DD0-9B51-4445-A27C-8D711C51F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8B637-DB20-4080-BD81-AD81014AB14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grpSp>
        <p:nvGrpSpPr>
          <p:cNvPr id="1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직선 연결선 56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5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6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7" name="직사각형 59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8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9" name="직사각형 61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0" name="직사각형 62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1" name="직사각형 6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2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3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4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6B2BD-C466-43DB-9DE4-DA6B9A14FB3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7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8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49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0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1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2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3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54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655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656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7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8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59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0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1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2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3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4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5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6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7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8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69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0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1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2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3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4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5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6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7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8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79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0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1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2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3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4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5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86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687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8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9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26ED3-5B03-4653-BE20-572C48C8CE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2" name="직사각형 57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3" name="직사각형 58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4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5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6" name="직사각형 61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7" name="직선 연결선 62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8" name="타원 6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9" name="타원 6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2B3E6-B82A-4691-BEA0-EE1023EA967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직사각형 57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7" name="직사각형 58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직사각형 59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직선 연결선 61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1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타원 6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타원 6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97A45-9A91-46D9-AB58-48E45B273011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9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2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14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14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7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8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49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0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1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2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3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4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5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6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59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0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3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4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8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69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0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1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2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3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75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76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7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8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32823-F3B5-47FF-839F-5FB323E7F1F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직사각형 56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1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2" name="직사각형 58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3" name="직사각형 59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4" name="직사각형 60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5" name="직사각형 61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6" name="직사각형 62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7" name="직사각형 6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8" name="직선 연결선 6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9" name="타원 6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0" name="타원 6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F6F01-3730-4381-90B2-634B0BB19A4B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3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4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5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6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7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8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9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0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281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82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3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4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6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7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8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1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2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3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4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5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6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7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8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09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0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1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312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313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4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5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6" name="직선 연결선 56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C33D7-E1DF-406F-A284-7E1FCC61CE38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직선 연결선 56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9" name="직사각형 57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0" name="직사각형 58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1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2" name="직사각형 60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3" name="직사각형 61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4" name="직사각형 62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5" name="직선 연결선 6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6" name="직사각형 6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7" name="타원 6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8" name="타원 6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0D166-21FF-47BD-8C02-1E322F5491C6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직사각형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1" name="직사각형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2" name="직사각형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3" name="직사각형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4" name="직사각형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5" name="직사각형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6" name="직선 연결선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7" name="타원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8" name="타원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pSp>
        <p:nvGrpSpPr>
          <p:cNvPr id="419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420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1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2" name="Oval 11"/>
            <p:cNvSpPr/>
            <p:nvPr/>
          </p:nvSpPr>
          <p:spPr>
            <a:xfrm>
              <a:off x="8489160" y="152280"/>
              <a:ext cx="11700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3" name="Oval 12"/>
            <p:cNvSpPr/>
            <p:nvPr/>
          </p:nvSpPr>
          <p:spPr>
            <a:xfrm>
              <a:off x="8153280" y="32004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4" name="Oval 13"/>
            <p:cNvSpPr/>
            <p:nvPr/>
          </p:nvSpPr>
          <p:spPr>
            <a:xfrm>
              <a:off x="8321040" y="32004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5" name="Oval 14"/>
            <p:cNvSpPr/>
            <p:nvPr/>
          </p:nvSpPr>
          <p:spPr>
            <a:xfrm>
              <a:off x="8489160" y="320040"/>
              <a:ext cx="11700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6" name="Oval 15"/>
            <p:cNvSpPr/>
            <p:nvPr/>
          </p:nvSpPr>
          <p:spPr>
            <a:xfrm>
              <a:off x="8657280" y="32004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7" name="Oval 16"/>
            <p:cNvSpPr/>
            <p:nvPr/>
          </p:nvSpPr>
          <p:spPr>
            <a:xfrm>
              <a:off x="8153280" y="488160"/>
              <a:ext cx="11988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8" name="Oval 17"/>
            <p:cNvSpPr/>
            <p:nvPr/>
          </p:nvSpPr>
          <p:spPr>
            <a:xfrm>
              <a:off x="8321040" y="488160"/>
              <a:ext cx="118440" cy="11664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29" name="Oval 18"/>
            <p:cNvSpPr/>
            <p:nvPr/>
          </p:nvSpPr>
          <p:spPr>
            <a:xfrm>
              <a:off x="848916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0" name="Oval 19"/>
            <p:cNvSpPr/>
            <p:nvPr/>
          </p:nvSpPr>
          <p:spPr>
            <a:xfrm>
              <a:off x="8657280" y="488160"/>
              <a:ext cx="117000" cy="11664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1" name="Oval 20"/>
            <p:cNvSpPr/>
            <p:nvPr/>
          </p:nvSpPr>
          <p:spPr>
            <a:xfrm>
              <a:off x="8825400" y="48816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2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646b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3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4" name="Oval 23"/>
            <p:cNvSpPr/>
            <p:nvPr/>
          </p:nvSpPr>
          <p:spPr>
            <a:xfrm>
              <a:off x="8489160" y="655920"/>
              <a:ext cx="11700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5" name="Oval 24"/>
            <p:cNvSpPr/>
            <p:nvPr/>
          </p:nvSpPr>
          <p:spPr>
            <a:xfrm>
              <a:off x="8657280" y="65592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6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7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8" name="Oval 27"/>
            <p:cNvSpPr/>
            <p:nvPr/>
          </p:nvSpPr>
          <p:spPr>
            <a:xfrm>
              <a:off x="848916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39" name="Oval 28"/>
            <p:cNvSpPr/>
            <p:nvPr/>
          </p:nvSpPr>
          <p:spPr>
            <a:xfrm>
              <a:off x="8657280" y="824040"/>
              <a:ext cx="117000" cy="1198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0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1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2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3" name="Oval 32"/>
            <p:cNvSpPr/>
            <p:nvPr/>
          </p:nvSpPr>
          <p:spPr>
            <a:xfrm>
              <a:off x="8489160" y="992160"/>
              <a:ext cx="117000" cy="11808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4" name="Oval 33"/>
            <p:cNvSpPr/>
            <p:nvPr/>
          </p:nvSpPr>
          <p:spPr>
            <a:xfrm>
              <a:off x="8657280" y="992160"/>
              <a:ext cx="117000" cy="11808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5" name="Oval 34"/>
            <p:cNvSpPr/>
            <p:nvPr/>
          </p:nvSpPr>
          <p:spPr>
            <a:xfrm>
              <a:off x="8153280" y="1159920"/>
              <a:ext cx="11988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6" name="Oval 35"/>
            <p:cNvSpPr/>
            <p:nvPr/>
          </p:nvSpPr>
          <p:spPr>
            <a:xfrm>
              <a:off x="8321040" y="1159920"/>
              <a:ext cx="118440" cy="116640"/>
            </a:xfrm>
            <a:prstGeom prst="ellipse">
              <a:avLst/>
            </a:prstGeom>
            <a:solidFill>
              <a:srgbClr val="d1634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7" name="Oval 36"/>
            <p:cNvSpPr/>
            <p:nvPr/>
          </p:nvSpPr>
          <p:spPr>
            <a:xfrm>
              <a:off x="848916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8" name="Oval 37"/>
            <p:cNvSpPr/>
            <p:nvPr/>
          </p:nvSpPr>
          <p:spPr>
            <a:xfrm>
              <a:off x="8657280" y="1159920"/>
              <a:ext cx="117000" cy="11664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49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50" name="Oval 39"/>
            <p:cNvSpPr/>
            <p:nvPr/>
          </p:nvSpPr>
          <p:spPr>
            <a:xfrm>
              <a:off x="8657280" y="1328040"/>
              <a:ext cx="117000" cy="119520"/>
            </a:xfrm>
            <a:prstGeom prst="ellipse">
              <a:avLst/>
            </a:prstGeom>
            <a:solidFill>
              <a:srgbClr val="694f0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451" name="Text Box 40"/>
          <p:cNvSpPr/>
          <p:nvPr/>
        </p:nvSpPr>
        <p:spPr>
          <a:xfrm>
            <a:off x="8080920" y="1459080"/>
            <a:ext cx="66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Slid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2" name="Rectangle 43"/>
          <p:cNvSpPr/>
          <p:nvPr/>
        </p:nvSpPr>
        <p:spPr>
          <a:xfrm>
            <a:off x="5292720" y="6597720"/>
            <a:ext cx="381636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0c1c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수질오염실험 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[1st Semester, </a:t>
            </a:r>
            <a:r>
              <a:rPr b="0" lang="ko-KR" sz="1000" spc="-1" strike="noStrike">
                <a:solidFill>
                  <a:srgbClr val="000000"/>
                </a:solidFill>
                <a:latin typeface="Verdana"/>
              </a:rPr>
              <a:t>대구대학교 환경공학과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3" name="Rectangle 45"/>
          <p:cNvSpPr/>
          <p:nvPr/>
        </p:nvSpPr>
        <p:spPr>
          <a:xfrm>
            <a:off x="539640" y="836640"/>
            <a:ext cx="7201080" cy="71280"/>
          </a:xfrm>
          <a:prstGeom prst="rect">
            <a:avLst/>
          </a:prstGeom>
          <a:gradFill rotWithShape="0">
            <a:gsLst>
              <a:gs pos="0">
                <a:srgbClr val="547f7e"/>
              </a:gs>
              <a:gs pos="100000">
                <a:srgbClr val="e5e5f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03176-43E2-465B-861B-3D1E69A58CEA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직사각형 5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6" name="직사각형 57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7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8" name="직사각형 5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9" name="직사각형 60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0" name="직사각형 61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FE48A-6280-49C2-B528-3B8C9A75884E}" type="slidenum"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직사각형 56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3" name="직사각형 57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4" name="직사각형 5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5" name="직사각형 59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6" name="직사각형 60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7" name="직사각형 6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8" name="직사각형 62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9" name="직선 연결선 6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0" name="타원 6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1" name="타원 6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2" name="직사각형 6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6F22D-B334-4A35-84C6-A38DE1EA272C}" type="slidenum">
              <a:rPr b="0" lang="en-US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Text Box 7"/>
          <p:cNvSpPr/>
          <p:nvPr/>
        </p:nvSpPr>
        <p:spPr>
          <a:xfrm>
            <a:off x="542880" y="974880"/>
            <a:ext cx="82692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개요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2" name="Text Box 8"/>
          <p:cNvSpPr/>
          <p:nvPr/>
        </p:nvSpPr>
        <p:spPr>
          <a:xfrm>
            <a:off x="809640" y="1521000"/>
            <a:ext cx="7362720" cy="22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을 이산화탄소와 물로 산화시키는 데 필요한 총 산소의 양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일반적으로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BOD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Glucose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같은 유기물의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&gt; L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(BOD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0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OD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상관관계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??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3" name="Text Box 17"/>
          <p:cNvSpPr/>
          <p:nvPr/>
        </p:nvSpPr>
        <p:spPr>
          <a:xfrm>
            <a:off x="775800" y="326880"/>
            <a:ext cx="7119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주 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CO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(Chemical Oxygen Demand) </a:t>
            </a:r>
            <a:r>
              <a:rPr b="0" lang="ko-KR" sz="24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 및 응용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Text Box 7"/>
          <p:cNvSpPr/>
          <p:nvPr/>
        </p:nvSpPr>
        <p:spPr>
          <a:xfrm>
            <a:off x="1030320" y="981000"/>
            <a:ext cx="7002360" cy="31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Glass bea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5~6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정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25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0.0 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정확히 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홍빛 액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를 연결한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 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을 냉각기 위에서 천천히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주의요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열 전 내용물의 완전혼합 확인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관으로 튀는 경우도 있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기 위를 비이커로 막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동안 가열하면서 환류냉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시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 검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동시에 진행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1030320" y="981000"/>
            <a:ext cx="7002360" cy="35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 가열 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식힌 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당량의 증류수를 이용하여 냉각관 벽면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세척하여 시료로 흘러들게 한다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 전량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4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정도가 되도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험액이 푸른 하늘색으로 변한 경우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가 너무 높은 경우이므로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희석을 다시 해서 실험해야 함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~4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정도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ba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agnetic stirre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이용하여 시료를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ixin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20000"/>
              </a:lnSpc>
              <a:buClr>
                <a:srgbClr val="ff9900"/>
              </a:buClr>
              <a:buFont typeface="Wingdings" charset="2"/>
              <a:buChar char="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앞서 만든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용액을 뷰렛을 이용하여 시료에 첨가하면서 적정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노란기가 감도는 초록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푸른 하늘색 </a:t>
            </a:r>
            <a:r>
              <a:rPr b="1" lang="ko-K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갈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정 중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의 부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A (blank test), B (sample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Text Box 5"/>
          <p:cNvSpPr/>
          <p:nvPr/>
        </p:nvSpPr>
        <p:spPr>
          <a:xfrm>
            <a:off x="751680" y="500040"/>
            <a:ext cx="2340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3. CODcr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대상 시료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1493640" y="988920"/>
            <a:ext cx="220860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각 단계별 시료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7" name="Text Box 6"/>
          <p:cNvSpPr/>
          <p:nvPr/>
        </p:nvSpPr>
        <p:spPr>
          <a:xfrm>
            <a:off x="2102400" y="1373040"/>
            <a:ext cx="6009120" cy="14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원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초침 유출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율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?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기존 자료와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!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 처리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류수 수질기준과의 부합성 여부 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TCOD, SCOD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및 결과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검토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828" name="Picture 4" descr="su_map1"/>
          <p:cNvPicPr/>
          <p:nvPr/>
        </p:nvPicPr>
        <p:blipFill>
          <a:blip r:embed="rId1"/>
          <a:stretch/>
        </p:blipFill>
        <p:spPr>
          <a:xfrm>
            <a:off x="857160" y="3790800"/>
            <a:ext cx="4837320" cy="1638360"/>
          </a:xfrm>
          <a:prstGeom prst="rect">
            <a:avLst/>
          </a:prstGeom>
          <a:ln w="0">
            <a:noFill/>
          </a:ln>
        </p:spPr>
      </p:pic>
      <p:pic>
        <p:nvPicPr>
          <p:cNvPr id="829" name="Picture 5" descr="su_map2"/>
          <p:cNvPicPr/>
          <p:nvPr/>
        </p:nvPicPr>
        <p:blipFill>
          <a:blip r:embed="rId2"/>
          <a:stretch/>
        </p:blipFill>
        <p:spPr>
          <a:xfrm>
            <a:off x="3929040" y="4929120"/>
            <a:ext cx="4549680" cy="144468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6"/>
          <p:cNvSpPr/>
          <p:nvPr/>
        </p:nvSpPr>
        <p:spPr>
          <a:xfrm>
            <a:off x="1189080" y="2935440"/>
            <a:ext cx="74865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BOD, CODcr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과의 상관관계 분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방안 검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전기분해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제거 등등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Text Box 5"/>
          <p:cNvSpPr/>
          <p:nvPr/>
        </p:nvSpPr>
        <p:spPr>
          <a:xfrm>
            <a:off x="765360" y="500040"/>
            <a:ext cx="231084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4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제거 공정 설계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2" name="Text Box 6"/>
          <p:cNvSpPr/>
          <p:nvPr/>
        </p:nvSpPr>
        <p:spPr>
          <a:xfrm>
            <a:off x="1531800" y="988920"/>
            <a:ext cx="27874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하수종말처리장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차침전조 유입수 대상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3" name="Text Box 6"/>
          <p:cNvSpPr/>
          <p:nvPr/>
        </p:nvSpPr>
        <p:spPr>
          <a:xfrm>
            <a:off x="1750680" y="1373040"/>
            <a:ext cx="411372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대상시료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입수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각 단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별 처리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공정 설계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4" name="Text Box 6"/>
          <p:cNvSpPr/>
          <p:nvPr/>
        </p:nvSpPr>
        <p:spPr>
          <a:xfrm>
            <a:off x="1189080" y="2205000"/>
            <a:ext cx="7486560" cy="31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침전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필수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1L Mass Cylind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시간은 자유롭게 토의하여 결정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생물학적 제거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대상 하수와 활성슬러지 첨가 부피는 자유롭게 결정해도 무방하나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를 고려하여 주입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 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 제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F/M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/g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미생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day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Text Box 6"/>
          <p:cNvSpPr/>
          <p:nvPr/>
        </p:nvSpPr>
        <p:spPr>
          <a:xfrm>
            <a:off x="1189080" y="692280"/>
            <a:ext cx="7486560" cy="42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활성탄 여과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GAC(Granular Activated Carbon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g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Dc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접촉시간별 시료 채취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5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간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0070c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응집제 사용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(</a:t>
            </a:r>
            <a:r>
              <a:rPr b="1" lang="ko-KR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선택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lum (A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·x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Jar-test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처리 대상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내외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첨가량을 달리하여 유기물 응집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침전 제거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제 주입량 사전 조사 필수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화합물 응집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제거 특성 문헌 조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시간 사전 조사 필수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36" name="Text Box 6"/>
          <p:cNvSpPr/>
          <p:nvPr/>
        </p:nvSpPr>
        <p:spPr>
          <a:xfrm>
            <a:off x="2059560" y="5168880"/>
            <a:ext cx="4358160" cy="7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생물학적 처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활성탄 여과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응집 중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개 공정 이상 선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공정별 조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및 단독 제거실험 후 비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할 것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!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5"/>
          <p:cNvSpPr/>
          <p:nvPr/>
        </p:nvSpPr>
        <p:spPr>
          <a:xfrm>
            <a:off x="809640" y="98100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방법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5" name="Text Box 58"/>
          <p:cNvSpPr/>
          <p:nvPr/>
        </p:nvSpPr>
        <p:spPr>
          <a:xfrm>
            <a:off x="1019880" y="1341360"/>
            <a:ext cx="4953600" cy="14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pen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tit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losed Reflux method (colorimetric method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6" name="Text Box 59"/>
          <p:cNvSpPr/>
          <p:nvPr/>
        </p:nvSpPr>
        <p:spPr>
          <a:xfrm>
            <a:off x="826920" y="3021120"/>
            <a:ext cx="714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방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산화제의 차이에 따른 분류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87" name="Text Box 60"/>
          <p:cNvSpPr/>
          <p:nvPr/>
        </p:nvSpPr>
        <p:spPr>
          <a:xfrm>
            <a:off x="1445760" y="3381480"/>
            <a:ext cx="3031200" cy="11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Mn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Mn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4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를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buClr>
                <a:srgbClr val="0000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 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OD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 (K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Cr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2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O</a:t>
            </a:r>
            <a:r>
              <a:rPr b="1" lang="en-US" sz="1600" spc="-1" strike="noStrike" baseline="-25000">
                <a:solidFill>
                  <a:srgbClr val="3333ff"/>
                </a:solidFill>
                <a:latin typeface="HY그래픽M"/>
                <a:ea typeface="HY그래픽M"/>
              </a:rPr>
              <a:t>7</a:t>
            </a:r>
            <a:r>
              <a:rPr b="1" lang="ko-KR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을 산화제로 사용</a:t>
            </a:r>
            <a:r>
              <a:rPr b="1" lang="en-US" sz="1600" spc="-1" strike="noStrike">
                <a:solidFill>
                  <a:srgbClr val="3333ff"/>
                </a:solidFill>
                <a:latin typeface="HY그래픽M"/>
                <a:ea typeface="HY그래픽M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8" name="Object 7"/>
          <p:cNvGraphicFramePr/>
          <p:nvPr/>
        </p:nvGraphicFramePr>
        <p:xfrm>
          <a:off x="952560" y="1628640"/>
          <a:ext cx="452916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9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2560" y="1628640"/>
                    <a:ext cx="452916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0" name="Object 8"/>
          <p:cNvGraphicFramePr/>
          <p:nvPr/>
        </p:nvGraphicFramePr>
        <p:xfrm>
          <a:off x="3184560" y="2205000"/>
          <a:ext cx="4597200" cy="70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91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84560" y="2205000"/>
                    <a:ext cx="4597200" cy="7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2" name="Text Box 9"/>
          <p:cNvSpPr/>
          <p:nvPr/>
        </p:nvSpPr>
        <p:spPr>
          <a:xfrm>
            <a:off x="665280" y="98100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유기물 산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93" name="Text Box 10"/>
          <p:cNvSpPr/>
          <p:nvPr/>
        </p:nvSpPr>
        <p:spPr>
          <a:xfrm>
            <a:off x="665280" y="3068640"/>
            <a:ext cx="714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여분의 산화제 양의 측정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적정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: titration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794" name="Object 11"/>
          <p:cNvGraphicFramePr/>
          <p:nvPr/>
        </p:nvGraphicFramePr>
        <p:xfrm>
          <a:off x="1096920" y="3789360"/>
          <a:ext cx="53672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5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3789360"/>
                    <a:ext cx="53672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96" name="Group 15"/>
          <p:cNvGrpSpPr/>
          <p:nvPr/>
        </p:nvGrpSpPr>
        <p:grpSpPr>
          <a:xfrm>
            <a:off x="1022040" y="4475160"/>
            <a:ext cx="4327920" cy="393480"/>
            <a:chOff x="1022040" y="4475160"/>
            <a:chExt cx="4327920" cy="393480"/>
          </a:xfrm>
        </p:grpSpPr>
        <p:sp>
          <p:nvSpPr>
            <p:cNvPr id="797" name="Rectangle 13"/>
            <p:cNvSpPr/>
            <p:nvPr/>
          </p:nvSpPr>
          <p:spPr>
            <a:xfrm>
              <a:off x="1022040" y="4475160"/>
              <a:ext cx="1632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c.f.) FAS </a:t>
              </a:r>
              <a:r>
                <a:rPr b="1" lang="ko-KR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사용</a:t>
              </a:r>
              <a:r>
                <a:rPr b="1" lang="en-US" sz="1800" spc="-1" strike="noStrike">
                  <a:solidFill>
                    <a:srgbClr val="000000"/>
                  </a:solidFill>
                  <a:latin typeface="HY그래픽"/>
                  <a:ea typeface="HY그래픽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aphicFrame>
          <p:nvGraphicFramePr>
            <p:cNvPr id="798" name="Object 14"/>
            <p:cNvGraphicFramePr/>
            <p:nvPr/>
          </p:nvGraphicFramePr>
          <p:xfrm>
            <a:off x="2610000" y="4481280"/>
            <a:ext cx="2739960" cy="3873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799" name="Object 1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610000" y="4481280"/>
                      <a:ext cx="2739960" cy="387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Text Box 9"/>
          <p:cNvSpPr/>
          <p:nvPr/>
        </p:nvSpPr>
        <p:spPr>
          <a:xfrm>
            <a:off x="665280" y="981000"/>
            <a:ext cx="714672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계산 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01" name="Object 10"/>
          <p:cNvGraphicFramePr/>
          <p:nvPr/>
        </p:nvGraphicFramePr>
        <p:xfrm>
          <a:off x="1187280" y="1700280"/>
          <a:ext cx="45514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700280"/>
                    <a:ext cx="45514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3" name="Rectangle 12"/>
          <p:cNvSpPr/>
          <p:nvPr/>
        </p:nvSpPr>
        <p:spPr>
          <a:xfrm>
            <a:off x="1799280" y="2637000"/>
            <a:ext cx="594828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A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blank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B : mL FAS used for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M : </a:t>
            </a: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molarity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of FAS (0.25M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예정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HY그래픽"/>
                <a:ea typeface="HY그래픽"/>
              </a:rPr>
              <a:t>8000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[mg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/mol FAS] : FAS 1mol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이 산화될 때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생성되는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         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전자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1mol (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2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Fe</a:t>
            </a:r>
            <a:r>
              <a:rPr b="1" lang="en-US" sz="1800" spc="-1" strike="noStrike" baseline="30000">
                <a:solidFill>
                  <a:srgbClr val="000000"/>
                </a:solidFill>
                <a:latin typeface="HY그래픽"/>
                <a:ea typeface="HY그래픽"/>
              </a:rPr>
              <a:t>3+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해당하는 산소 당량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ext Box 8"/>
          <p:cNvSpPr/>
          <p:nvPr/>
        </p:nvSpPr>
        <p:spPr>
          <a:xfrm>
            <a:off x="528480" y="974880"/>
            <a:ext cx="1570320" cy="5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2. CO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HY헤드라인M"/>
                <a:ea typeface="HY헤드라인M"/>
              </a:rPr>
              <a:t>cr</a:t>
            </a:r>
            <a:r>
              <a:rPr b="0" lang="en-US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분석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5" name="Text Box 9"/>
          <p:cNvSpPr/>
          <p:nvPr/>
        </p:nvSpPr>
        <p:spPr>
          <a:xfrm>
            <a:off x="684360" y="148428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실험장치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6" name="Text Box 10"/>
          <p:cNvSpPr/>
          <p:nvPr/>
        </p:nvSpPr>
        <p:spPr>
          <a:xfrm>
            <a:off x="971640" y="1986120"/>
            <a:ext cx="6913440" cy="11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냉각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Reflux appratus : 500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mL Erlenmeyer flask,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0mm Liebig jacket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비등석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ot plate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Text Box 28"/>
          <p:cNvSpPr/>
          <p:nvPr/>
        </p:nvSpPr>
        <p:spPr>
          <a:xfrm>
            <a:off x="684360" y="942840"/>
            <a:ext cx="736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시약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(reagents)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8" name="Text Box 29"/>
          <p:cNvSpPr/>
          <p:nvPr/>
        </p:nvSpPr>
        <p:spPr>
          <a:xfrm>
            <a:off x="971640" y="1444680"/>
            <a:ext cx="7129440" cy="37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potassium dichromate solution, 0.0417M (=0.25N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2.259g 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→ 1L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반드시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3-105℃ drying oven+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데시케이터에서 건조 후 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gt; 50mg/L → 0.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COD &lt; 50mg/L → 0.025 N 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3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ulfuric acid reagents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은 용액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1g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용해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1-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일 후 이용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→ 5.5g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/conc.-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500mL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또는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kg)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Ag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은 직선고리형 알코올과 유기산의 산화에 촉매로 작용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12"/>
          <p:cNvSpPr/>
          <p:nvPr/>
        </p:nvSpPr>
        <p:spPr>
          <a:xfrm>
            <a:off x="539640" y="1052640"/>
            <a:ext cx="8282160" cy="390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tandard ferrous ammonium sulfate (FAS) 0.25M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98g Fe(N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6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증류수에 용해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냉각후 증류수 첨가하여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맞출 것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-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사용할 때 마다 표정해야 함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*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정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: 250 mL Erlenmeye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K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7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준액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mL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넣고 증류수로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만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,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여기에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0mL conc. 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후 냉각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15 mL(2~3 drops) Ferroin indicator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→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AS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적정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오렌지색 → 청녹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blue green)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적갈색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redish brown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종말 점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         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0" name="Object 13"/>
          <p:cNvGraphicFramePr/>
          <p:nvPr/>
        </p:nvGraphicFramePr>
        <p:xfrm>
          <a:off x="1332000" y="4581360"/>
          <a:ext cx="7192800" cy="58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1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4581360"/>
                    <a:ext cx="7192800" cy="5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11"/>
          <p:cNvSpPr/>
          <p:nvPr/>
        </p:nvSpPr>
        <p:spPr>
          <a:xfrm>
            <a:off x="755640" y="1154160"/>
            <a:ext cx="7201080" cy="27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Ferroine indicator solution : 1.485 g 1,10-phenanthroline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onohydrate (C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1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8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N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695 g Fe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HY그래픽"/>
              </a:rPr>
              <a:t>·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7H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O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→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증류수첨가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100 mL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※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페난트롤린은 열에 약하므로 시료가 뜨거울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80℃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이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지시약을 넣으면 안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시료를 완전히 식한 후 지시약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3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방울 첨가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210000"/>
              </a:lnSpc>
              <a:buClr>
                <a:srgbClr val="ff9900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Mercuric sulfate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황산제일 수은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,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결정 또는 분말상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: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염화물의 방해작용 제거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3" name="Object 12"/>
          <p:cNvGraphicFramePr/>
          <p:nvPr/>
        </p:nvGraphicFramePr>
        <p:xfrm>
          <a:off x="1116000" y="4330800"/>
          <a:ext cx="42480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4330800"/>
                    <a:ext cx="42480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5" name="Rectangle 14"/>
          <p:cNvSpPr/>
          <p:nvPr/>
        </p:nvSpPr>
        <p:spPr>
          <a:xfrm>
            <a:off x="948240" y="3908520"/>
            <a:ext cx="31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Interference by chloride ion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16" name="Object 15"/>
          <p:cNvGraphicFramePr/>
          <p:nvPr/>
        </p:nvGraphicFramePr>
        <p:xfrm>
          <a:off x="1187280" y="5229360"/>
          <a:ext cx="2133720" cy="34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7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5229360"/>
                    <a:ext cx="2133720" cy="34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8" name="Rectangle 16"/>
          <p:cNvSpPr/>
          <p:nvPr/>
        </p:nvSpPr>
        <p:spPr>
          <a:xfrm>
            <a:off x="956880" y="4797360"/>
            <a:ext cx="289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HY그래픽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Remove the interference: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Text Box 5"/>
          <p:cNvSpPr/>
          <p:nvPr/>
        </p:nvSpPr>
        <p:spPr>
          <a:xfrm>
            <a:off x="809640" y="907920"/>
            <a:ext cx="7002360" cy="5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009999"/>
              </a:buClr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COD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cr</a:t>
            </a:r>
            <a:r>
              <a:rPr b="1" lang="en-US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800" spc="-1" strike="noStrike">
                <a:solidFill>
                  <a:srgbClr val="000000"/>
                </a:solidFill>
                <a:latin typeface="HY그래픽"/>
                <a:ea typeface="HY그래픽"/>
              </a:rPr>
              <a:t>분석 과정</a:t>
            </a: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025640" y="1368360"/>
            <a:ext cx="7002360" cy="12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0.4g HgSO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를 젖빛 유리목 이 달린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250-300mL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환류 플라스크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평판증류플라스크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에 넣는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로 시료중 염소이온을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HgCl</a:t>
            </a:r>
            <a:r>
              <a:rPr b="1" lang="en-US" sz="1600" spc="-1" strike="noStrike" baseline="-25000">
                <a:solidFill>
                  <a:srgbClr val="000000"/>
                </a:solidFill>
                <a:latin typeface="HY그래픽"/>
                <a:ea typeface="HY그래픽"/>
              </a:rPr>
              <a:t>2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로 전환하여 방해작용 억제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1" name="Text Box 12"/>
          <p:cNvSpPr/>
          <p:nvPr/>
        </p:nvSpPr>
        <p:spPr>
          <a:xfrm>
            <a:off x="1030320" y="2523960"/>
            <a:ext cx="700236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ff9900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플라스크에 검수 적당량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mL) 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넣음 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흰분말이 노란색이 된다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 (</a:t>
            </a:r>
            <a:r>
              <a:rPr b="1" lang="ko-KR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표 참고</a:t>
            </a:r>
            <a:r>
              <a:rPr b="1" lang="en-US" sz="1600" spc="-1" strike="noStrike">
                <a:solidFill>
                  <a:srgbClr val="000000"/>
                </a:solidFill>
                <a:latin typeface="HY그래픽"/>
                <a:ea typeface="HY그래픽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822" name=""/>
          <p:cNvGraphicFramePr/>
          <p:nvPr/>
        </p:nvGraphicFramePr>
        <p:xfrm>
          <a:off x="1403280" y="3141720"/>
          <a:ext cx="6096240" cy="2133720"/>
        </p:xfrm>
        <a:graphic>
          <a:graphicData uri="http://schemas.openxmlformats.org/drawingml/2006/table">
            <a:tbl>
              <a:tblPr/>
              <a:tblGrid>
                <a:gridCol w="1081080"/>
                <a:gridCol w="1357560"/>
                <a:gridCol w="1218960"/>
                <a:gridCol w="1219320"/>
                <a:gridCol w="1219320"/>
              </a:tblGrid>
              <a:tr h="594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검수량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5N K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Cr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-</a:t>
                      </a: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황산은 용액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HgSO</a:t>
                      </a:r>
                      <a:r>
                        <a:rPr b="1" lang="en-US" sz="1400" spc="-1" strike="noStrike" baseline="-25000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 (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적정 전 최종부피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(m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4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1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7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HY그래픽"/>
                          <a:ea typeface="HY그래픽"/>
                        </a:rPr>
                        <a:t>1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28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2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HY그래픽"/>
                          <a:ea typeface="HY그래픽"/>
                        </a:rPr>
                        <a:t>3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2T14:05:33Z</dcterms:created>
  <dc:creator>최영균</dc:creator>
  <dc:description/>
  <dc:language>en-US</dc:language>
  <cp:lastModifiedBy>YoungChoi_VAIO</cp:lastModifiedBy>
  <dcterms:modified xsi:type="dcterms:W3CDTF">2011-04-12T01:20:38Z</dcterms:modified>
  <cp:revision>232</cp:revision>
  <dc:subject/>
  <dc:title>슬라이드 1</dc:title>
</cp:coreProperties>
</file>